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jpeg" ContentType="image/jpeg"/>
  <Override PartName="/ppt/media/image1.png" ContentType="image/png"/>
  <Override PartName="/ppt/media/image15.jpeg" ContentType="image/jpeg"/>
  <Override PartName="/ppt/media/image3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898-7D48-4B95-B2C8-AC17EC46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F936-ADF5-490D-B914-7F55376F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4A6-1BEB-4029-A0E8-37EEBE9E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D2AC-56B9-44C3-AD19-80F2A3E7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781E-55D0-4600-B429-204B03CF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9728-3E78-4AA9-B9A4-1CABDD3A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7D1D-BD7C-44D9-9EB0-B2518417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3655-E9E0-4F9D-BA65-6ED24F65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8B65-73C3-478E-9677-63B5C4E5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05D3-9536-42A0-8CED-4574B2F8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EF2E-76F7-42F6-A7A4-B3FF874A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AF2-61DF-4C1A-BBAB-3C7FE3A4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3A38-376B-444F-BE79-C052D1DA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27FF-37BC-47D4-8D6F-0B595F4A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D6BA-66D6-43B4-B28B-1062C2B2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D049-5D9D-4EE7-996C-44AF7D75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8D31-1202-40A6-8110-95B02E12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9343A-CD92-4163-A22F-5A0BD2C2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B6D57-5DDC-4B85-B3F7-3F236FE8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8C9E3-5CA9-4699-8642-5DF8F461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EC3E0-1A07-48BC-B224-FD23000B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883D2-4268-4D0E-B884-3AB5538A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B21-5ADC-4BF3-972D-DA66B7B2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F6A81-0FE0-4B4F-839D-79C9BEBD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F1FC3-8E45-40A4-B947-90352460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D4E76-1D95-476D-9BC6-62D62CFF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0A839-6B4C-4790-8AAB-6FADC084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D4909-677F-4B0A-8CF0-9AF8A7CD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BD0BC-AAEC-4684-8841-FAAF9A14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5DE95-E12F-4C32-A18E-61A985C6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81C92-0BE7-4D54-9E2F-3D6A1FC7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9117B-B289-4AFC-B251-2F88A937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145EC-B082-4D68-A90E-2E773EEA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B6E2-95EF-4081-9419-B1CE15D5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5B772-66BA-4197-8E5D-33EF0D42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D48C6-9C3D-40E6-A5AF-BF74CC2F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2B96A-F2E3-4BD5-877D-AD1CE982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893D7-2ADB-46A9-9675-BC0B67FA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F9B86-FFA4-4886-B155-65FB5C5A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EACEA-30B2-484D-ABB8-C1F2E838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011CB-6CD4-422D-A2A3-56FFB953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51FB3-89AB-4774-91CF-A46DF599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5D9D9-61BA-4B62-A7B1-1E4695C6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FC32B-C7B2-4FAC-B9AF-B537367C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10E9-4EDA-4F3C-98C7-B6C4B13F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A888F-6791-4912-B1D6-4AFB310B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FA903-A04F-457D-B93C-ED61AF14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2AC2D-CEC9-4D7C-B075-7BAE9903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0F187-1489-42DD-BB69-9503F0D8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758F0-0773-4641-9EC5-57A16708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BAD3E-18C8-4C86-BAB1-0EEE1DC1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2585D-C417-495E-B5BA-7C5C435C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17999-3100-44B1-8B01-E1DC8BDE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73E25-5424-444B-9260-B3058FFD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A89BB-E063-47D3-8E1C-A8389292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303B-8B6C-4359-AB93-EE50A0D8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00FE0-B136-4901-A477-1EAEC54F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F6DD5-3B50-499D-9A97-1F34CAE9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99E86-39B2-444E-9A0D-46E10C4A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43DA5-9942-4CDF-9A51-78AD6794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2FC23-C53A-4247-A1BF-276DCDC7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2F112-59FB-40C9-82FA-CBEA674B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A799A-4C77-4D84-86D1-668F5D00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2B115-3ECF-4916-98C4-1FB1B5C1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ECD1F-7CC2-4000-9B40-12E8D113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592D7-8A6A-4AE9-8549-ABB21F30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E4E-8D01-4E1E-AAFD-BCFAAAEA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A8D84-59CA-4083-B318-C936E78E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135D7-3204-41E0-806E-0F56CE1F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C8CB1-CB58-4D7D-9521-DC539E0F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8430-A123-43EA-973F-9D45A6D8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59BD-274F-4AB3-84C6-141CCAF2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7 - Στρογγυλεμένο ορθογώνιο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8E91-7664-4834-BE93-A0A5D7885E75}" type="slidenum">
              <a:rPr b="0" lang="el-G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10 - Στρογγυλεμένο ορθογώνιο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11 - Ορθογώνιο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12 - Ορθογώνιο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14 - Ορθογώνιο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9E47-9618-4BCD-983B-5E8179323302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9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" name="10 - Στρογγυλεμένο ορθογώνιο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10 - Στρογγυλεμένο ορθογώνιο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11 - Ορθογώνιο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12 - Ορθογώνιο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14 - Ορθογώνιο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8DDD-564B-49F4-9B11-D45D294183BC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8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7 - Στρογγυλεμένο ορθογώνιο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9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10 - Στρογγυλεμένο ορθογώνιο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B471-D064-4D2F-8E37-DD674AD209EC}" type="slidenum">
              <a:rPr b="0" lang="el-G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8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7 - Στρογγυλεμένο ορθογώνιο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9 - Ορθογώνιο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10 - Ορθογώνιο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11 - Ορθογώνιο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FBC6-7C58-48DF-A7AB-CCBA3A1F9FFA}" type="slidenum">
              <a:rPr b="0" lang="el-G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8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7 - Στρογγυλεμένο ορθογώνιο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D576-F9CC-4D9E-8875-A0B5E47D1F76}" type="slidenum">
              <a:rPr b="0" lang="el-G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501040" cy="9698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2329"/>
                </a:solidFill>
                <a:latin typeface="Cambria"/>
              </a:rPr>
              <a:t>GRAFFITI, </a:t>
            </a:r>
            <a:r>
              <a:rPr b="0" lang="el-GR" sz="4000" spc="-1" strike="noStrike">
                <a:solidFill>
                  <a:srgbClr val="062329"/>
                </a:solidFill>
                <a:latin typeface="Cambria"/>
              </a:rPr>
              <a:t>Η ΤΕΧΝΗ ΤΟΥ ΔΡΟΜΟΥ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Φύλο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pic>
        <p:nvPicPr>
          <p:cNvPr id="291" name="Chart 1" descr=""/>
          <p:cNvPicPr/>
          <p:nvPr/>
        </p:nvPicPr>
        <p:blipFill>
          <a:blip r:embed="rId1"/>
          <a:stretch/>
        </p:blipFill>
        <p:spPr>
          <a:xfrm>
            <a:off x="1066680" y="1352520"/>
            <a:ext cx="7785360" cy="458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62329"/>
                </a:solidFill>
                <a:latin typeface="Calibri"/>
              </a:rPr>
              <a:t>Έχετε δει </a:t>
            </a:r>
            <a:r>
              <a:rPr b="0" lang="en-US" sz="2800" spc="-1" strike="noStrike">
                <a:solidFill>
                  <a:srgbClr val="062329"/>
                </a:solidFill>
                <a:latin typeface="Calibri"/>
              </a:rPr>
              <a:t>graffiti </a:t>
            </a:r>
            <a:r>
              <a:rPr b="0" lang="el-GR" sz="2800" spc="-1" strike="noStrike">
                <a:solidFill>
                  <a:srgbClr val="062329"/>
                </a:solidFill>
                <a:latin typeface="Calibri"/>
              </a:rPr>
              <a:t>στην πόλη μας;</a:t>
            </a:r>
            <a:endParaRPr b="0" lang="en-US" sz="2800" spc="-1" strike="noStrike">
              <a:solidFill>
                <a:srgbClr val="464646"/>
              </a:solidFill>
              <a:latin typeface="Calibri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91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1" descr=""/>
          <p:cNvPicPr/>
          <p:nvPr/>
        </p:nvPicPr>
        <p:blipFill>
          <a:blip r:embed="rId2"/>
          <a:stretch/>
        </p:blipFill>
        <p:spPr>
          <a:xfrm>
            <a:off x="836640" y="3938760"/>
            <a:ext cx="3281400" cy="2192040"/>
          </a:xfrm>
          <a:prstGeom prst="rect">
            <a:avLst/>
          </a:prstGeom>
          <a:ln w="0">
            <a:noFill/>
          </a:ln>
        </p:spPr>
      </p:pic>
      <p:pic>
        <p:nvPicPr>
          <p:cNvPr id="295" name="Chart 6" descr=""/>
          <p:cNvPicPr/>
          <p:nvPr/>
        </p:nvPicPr>
        <p:blipFill>
          <a:blip r:embed="rId3"/>
          <a:stretch/>
        </p:blipFill>
        <p:spPr>
          <a:xfrm>
            <a:off x="-1006560" y="-219240"/>
            <a:ext cx="10163160" cy="708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62329"/>
                </a:solidFill>
                <a:latin typeface="Cambria"/>
              </a:rPr>
              <a:t>Μορφωτικό επίπεδο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297" name="Object 3"/>
          <p:cNvGraphicFramePr/>
          <p:nvPr/>
        </p:nvGraphicFramePr>
        <p:xfrm>
          <a:off x="1434960" y="1569960"/>
          <a:ext cx="6764400" cy="430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1569960"/>
                    <a:ext cx="676440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mbria"/>
              </a:rPr>
              <a:t>Ηλικιακή ομάδα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857160" y="1785960"/>
          <a:ext cx="7410600" cy="358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785960"/>
                    <a:ext cx="741060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5716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mbria"/>
              </a:rPr>
              <a:t>Γνωρίζετε τι είναι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graffiti</a:t>
            </a:r>
            <a:r>
              <a:rPr b="0" lang="el-GR" sz="36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03" name="Object 7"/>
          <p:cNvGraphicFramePr/>
          <p:nvPr/>
        </p:nvGraphicFramePr>
        <p:xfrm>
          <a:off x="857160" y="1428840"/>
          <a:ext cx="7483680" cy="388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428840"/>
                    <a:ext cx="748368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mbria"/>
              </a:rPr>
              <a:t>Ομορφαίνει το αστικό τοπίο;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06" name="Object 3"/>
          <p:cNvGraphicFramePr/>
          <p:nvPr/>
        </p:nvGraphicFramePr>
        <p:xfrm>
          <a:off x="584280" y="1197000"/>
          <a:ext cx="7916760" cy="499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1197000"/>
                    <a:ext cx="791676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5716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mbria"/>
              </a:rPr>
              <a:t>Είναι μορφή έκφρασης συναισθημάτων των δημιουργών;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09" name="Object 3"/>
          <p:cNvGraphicFramePr/>
          <p:nvPr/>
        </p:nvGraphicFramePr>
        <p:xfrm>
          <a:off x="773280" y="1857240"/>
          <a:ext cx="7616520" cy="40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1857240"/>
                    <a:ext cx="761652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mbria"/>
              </a:rPr>
              <a:t>Θα επιθυμούσα να είχα ένα σε έναν άδειο τοίχο του σπιτιού μου;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12" name="Object 3"/>
          <p:cNvGraphicFramePr/>
          <p:nvPr/>
        </p:nvGraphicFramePr>
        <p:xfrm>
          <a:off x="933480" y="1849320"/>
          <a:ext cx="7880400" cy="43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1849320"/>
                    <a:ext cx="788040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mbria"/>
              </a:rPr>
              <a:t>Οι δημιουργοί του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graffiti </a:t>
            </a:r>
            <a:r>
              <a:rPr b="0" lang="el-GR" sz="3600" spc="-1" strike="noStrike">
                <a:solidFill>
                  <a:srgbClr val="000000"/>
                </a:solidFill>
                <a:latin typeface="Cambria"/>
              </a:rPr>
              <a:t>ακολουθούν κανόνες δεοντολογίας;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15" name="Object 3"/>
          <p:cNvGraphicFramePr/>
          <p:nvPr/>
        </p:nvGraphicFramePr>
        <p:xfrm>
          <a:off x="1114560" y="1957320"/>
          <a:ext cx="7372080" cy="35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957320"/>
                    <a:ext cx="737208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mbria"/>
              </a:rPr>
              <a:t>Είναι βανδαλισμός;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18" name="Object 3"/>
          <p:cNvGraphicFramePr/>
          <p:nvPr/>
        </p:nvGraphicFramePr>
        <p:xfrm>
          <a:off x="716040" y="1357200"/>
          <a:ext cx="7824600" cy="49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1357200"/>
                    <a:ext cx="782460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2640" y="928440"/>
            <a:ext cx="7072200" cy="734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62329"/>
                </a:solidFill>
                <a:latin typeface="Cambria"/>
              </a:rPr>
              <a:t>Η εξελικτική πορεία της εργασίας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56800" y="2428560"/>
            <a:ext cx="790092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Ανάλυση θέματος σε επιμέρους παραρτήματα.</a:t>
            </a:r>
            <a:r>
              <a:rPr b="0" lang="el-GR" sz="2000" spc="-1" strike="noStrike">
                <a:solidFill>
                  <a:srgbClr val="062329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Διαχωρισμός των μαθητών σε 4 ομάδες και επιλογή θέματος για κάθε ομάδα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Αναζήτηση και αξιολόγηση αξιόπιστων και μη πηγών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Συγκέντρωση πληροφοριών, επεξεργασία και καταγραφή τους σε κείμενο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mbria"/>
              </a:rPr>
              <a:t>Πρέπει να νομιμοποιηθεί;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21" name="Object 3"/>
          <p:cNvGraphicFramePr/>
          <p:nvPr/>
        </p:nvGraphicFramePr>
        <p:xfrm>
          <a:off x="1249200" y="1447920"/>
          <a:ext cx="71010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447920"/>
                    <a:ext cx="7101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Το </a:t>
            </a:r>
            <a:r>
              <a:rPr b="0" lang="en-US" sz="3600" spc="-1" strike="noStrike">
                <a:solidFill>
                  <a:srgbClr val="464646"/>
                </a:solidFill>
                <a:latin typeface="Cambria"/>
              </a:rPr>
              <a:t>site </a:t>
            </a: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των αναρτήσεων μας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pic>
        <p:nvPicPr>
          <p:cNvPr id="324" name="3 - Θέση περιεχομένου" descr="to_wiki_mas.JPG"/>
          <p:cNvPicPr/>
          <p:nvPr/>
        </p:nvPicPr>
        <p:blipFill>
          <a:blip r:embed="rId1"/>
          <a:stretch/>
        </p:blipFill>
        <p:spPr>
          <a:xfrm>
            <a:off x="912960" y="1571760"/>
            <a:ext cx="7016760" cy="4214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Το </a:t>
            </a:r>
            <a:r>
              <a:rPr b="0" lang="en-US" sz="3600" spc="-1" strike="noStrike">
                <a:solidFill>
                  <a:srgbClr val="464646"/>
                </a:solidFill>
                <a:latin typeface="Cambria"/>
              </a:rPr>
              <a:t>graffiti </a:t>
            </a: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στο 4</a:t>
            </a:r>
            <a:r>
              <a:rPr b="0" lang="el-GR" sz="3600" spc="-1" strike="noStrike" baseline="30000">
                <a:solidFill>
                  <a:srgbClr val="464646"/>
                </a:solidFill>
                <a:latin typeface="Cambria"/>
              </a:rPr>
              <a:t>ο</a:t>
            </a: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 γυμνάσιο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pic>
        <p:nvPicPr>
          <p:cNvPr id="326" name="3 - Θέση περιεχομένου" descr="graffiti-mask.jpg"/>
          <p:cNvPicPr/>
          <p:nvPr/>
        </p:nvPicPr>
        <p:blipFill>
          <a:blip r:embed="rId1"/>
          <a:stretch/>
        </p:blipFill>
        <p:spPr>
          <a:xfrm>
            <a:off x="1000080" y="1447920"/>
            <a:ext cx="70722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62329"/>
                </a:solidFill>
                <a:latin typeface="Cambria"/>
              </a:rPr>
              <a:t>Κατανομή των ομάδων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56760" y="928800"/>
            <a:ext cx="8358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62329"/>
                </a:solidFill>
                <a:latin typeface="Cambria"/>
              </a:rPr>
              <a:t>Ομάδα 1</a:t>
            </a:r>
            <a:r>
              <a:rPr b="1" lang="el-GR" sz="2000" spc="-1" strike="noStrike" baseline="30000">
                <a:solidFill>
                  <a:srgbClr val="062329"/>
                </a:solidFill>
                <a:latin typeface="Cambria"/>
              </a:rPr>
              <a:t>η</a:t>
            </a:r>
            <a:r>
              <a:rPr b="1" lang="el-GR" sz="2000" spc="-1" strike="noStrike">
                <a:solidFill>
                  <a:srgbClr val="062329"/>
                </a:solidFill>
                <a:latin typeface="Cambria"/>
              </a:rPr>
              <a:t>: Ιστορία του </a:t>
            </a:r>
            <a:r>
              <a:rPr b="1" lang="en-US" sz="2000" spc="-1" strike="noStrike">
                <a:solidFill>
                  <a:srgbClr val="062329"/>
                </a:solidFill>
                <a:latin typeface="Cambria"/>
              </a:rPr>
              <a:t>graffiti-</a:t>
            </a:r>
            <a:r>
              <a:rPr b="1" lang="el-GR" sz="2000" spc="-1" strike="noStrike">
                <a:solidFill>
                  <a:srgbClr val="062329"/>
                </a:solidFill>
                <a:latin typeface="Cambria"/>
              </a:rPr>
              <a:t>Προέλευση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Βαγενάς Δημήτρη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Καριοφύλη Χαρά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Λούκας Φίλιππο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Νότσικα Χρύσα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Σιαμαλέκα Ευτυχία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62329"/>
                </a:solidFill>
                <a:latin typeface="Cambria"/>
              </a:rPr>
              <a:t>Ομάδα 2</a:t>
            </a:r>
            <a:r>
              <a:rPr b="1" lang="el-GR" sz="2000" spc="-1" strike="noStrike" baseline="30000">
                <a:solidFill>
                  <a:srgbClr val="062329"/>
                </a:solidFill>
                <a:latin typeface="Cambria"/>
              </a:rPr>
              <a:t>η</a:t>
            </a:r>
            <a:r>
              <a:rPr b="1" lang="el-GR" sz="2000" spc="-1" strike="noStrike">
                <a:solidFill>
                  <a:srgbClr val="062329"/>
                </a:solidFill>
                <a:latin typeface="Cambria"/>
              </a:rPr>
              <a:t>: Καλλιτέχνες του </a:t>
            </a:r>
            <a:r>
              <a:rPr b="1" lang="en-US" sz="2000" spc="-1" strike="noStrike">
                <a:solidFill>
                  <a:srgbClr val="062329"/>
                </a:solidFill>
                <a:latin typeface="Cambria"/>
              </a:rPr>
              <a:t>graffiti-</a:t>
            </a:r>
            <a:r>
              <a:rPr b="1" lang="el-GR" sz="2000" spc="-1" strike="noStrike">
                <a:solidFill>
                  <a:srgbClr val="062329"/>
                </a:solidFill>
                <a:latin typeface="Cambria"/>
              </a:rPr>
              <a:t>Τέχνη ή Βανδαλισμός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Δεμιρτζόγλου Ιωάννα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Καρβέλης Νίκο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Κασσελούρη Ιωάννα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Κοσκινάς Κώστα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Μπάλλας Δημήτρη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62329"/>
                </a:solidFill>
                <a:latin typeface="Cambria"/>
              </a:rPr>
              <a:t>Ομάδα 3</a:t>
            </a:r>
            <a:r>
              <a:rPr b="1" lang="el-GR" sz="2000" spc="-1" strike="noStrike" baseline="30000">
                <a:solidFill>
                  <a:srgbClr val="062329"/>
                </a:solidFill>
                <a:latin typeface="Cambria"/>
              </a:rPr>
              <a:t>η</a:t>
            </a:r>
            <a:r>
              <a:rPr b="1" lang="el-GR" sz="2000" spc="-1" strike="noStrike">
                <a:solidFill>
                  <a:srgbClr val="062329"/>
                </a:solidFill>
                <a:latin typeface="Cambria"/>
              </a:rPr>
              <a:t>: Οικονομία &amp; </a:t>
            </a:r>
            <a:r>
              <a:rPr b="1" lang="en-US" sz="2000" spc="-1" strike="noStrike">
                <a:solidFill>
                  <a:srgbClr val="062329"/>
                </a:solidFill>
                <a:latin typeface="Cambria"/>
              </a:rPr>
              <a:t>graffiti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Βασδέκη Γεωργία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Σήτα Βασιλική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Συμεωνίδης Άγγελο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62329"/>
                </a:solidFill>
                <a:latin typeface="Cambria"/>
              </a:rPr>
              <a:t>Ομάδα 4</a:t>
            </a:r>
            <a:r>
              <a:rPr b="1" lang="el-GR" sz="2000" spc="-1" strike="noStrike" baseline="30000">
                <a:solidFill>
                  <a:srgbClr val="062329"/>
                </a:solidFill>
                <a:latin typeface="Cambria"/>
              </a:rPr>
              <a:t>η</a:t>
            </a:r>
            <a:r>
              <a:rPr b="1" lang="el-GR" sz="2000" spc="-1" strike="noStrike">
                <a:solidFill>
                  <a:srgbClr val="062329"/>
                </a:solidFill>
                <a:latin typeface="Cambria"/>
              </a:rPr>
              <a:t>: Θεματολογία-Είδη-4 στοιχεία-Νομιμότητα-Νομοθεσία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Μέρμηγκα Φωτεινή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Μπότσολος Χρήστο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Πάνου Χρύσα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Παπαδημητρίου Κώστα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2329"/>
                </a:solidFill>
                <a:latin typeface="Cambria"/>
              </a:rPr>
              <a:t>	</a:t>
            </a:r>
            <a:r>
              <a:rPr b="0" lang="el-GR" sz="1800" spc="-1" strike="noStrike">
                <a:solidFill>
                  <a:srgbClr val="062329"/>
                </a:solidFill>
                <a:latin typeface="Cambria"/>
              </a:rPr>
              <a:t>Πρίντζης Παναγιώτης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Ιστορία του </a:t>
            </a:r>
            <a:r>
              <a:rPr b="0" lang="en-US" sz="3600" spc="-1" strike="noStrike">
                <a:solidFill>
                  <a:srgbClr val="464646"/>
                </a:solidFill>
                <a:latin typeface="Cambria"/>
              </a:rPr>
              <a:t>graffiti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4 στοιχεια(χιπ-χοπ)</a:t>
            </a: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reak Dance(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χορός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RAP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Djing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raffiti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4165920" y="3245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Νομοθεσία - νομιμότητα - ''τέχνη ή βανδαλισμός;''</a:t>
            </a: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α graffiti μπορεί να είναι είτε νόμιμα είτε παράνομα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Η επιλογή βρίσκεται καθαρά στα χέρια του καλλιτέχνη.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Το </a:t>
            </a:r>
            <a:r>
              <a:rPr b="0" lang="en-US" sz="3600" spc="-1" strike="noStrike">
                <a:solidFill>
                  <a:srgbClr val="464646"/>
                </a:solidFill>
                <a:latin typeface="Cambria"/>
              </a:rPr>
              <a:t>graffiti</a:t>
            </a: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 στην Ελλάδα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E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μφανίστηκε γύρω στο 1986 αρχικά με πολύχρωμα σχέδια και μηνύματα πάνω στα βαγόνια του ηλεκτρικού και των τρένων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Δεν αποτελεί έκφραση του περιθωρίου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Ακριβά σπρέϋ            ακριβό χόμπ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5 - Ραβδωτό δεξιό βέλος"/>
          <p:cNvSpPr/>
          <p:nvPr/>
        </p:nvSpPr>
        <p:spPr>
          <a:xfrm>
            <a:off x="3214800" y="4143240"/>
            <a:ext cx="571320" cy="198720"/>
          </a:xfrm>
          <a:custGeom>
            <a:avLst/>
            <a:gdLst>
              <a:gd name="textAreaLeft" fmla="*/ 30960 w 571320"/>
              <a:gd name="textAreaRight" fmla="*/ 522000 w 571320"/>
              <a:gd name="textAreaTop" fmla="*/ 49680 h 198720"/>
              <a:gd name="textAreaBottom" fmla="*/ 149040 h 198720"/>
            </a:gdLst>
            <a:ahLst/>
            <a:rect l="textAreaLeft" t="textAreaTop" r="textAreaRight" b="textAreaBottom"/>
            <a:pathLst>
              <a:path w="571500" h="198437">
                <a:moveTo>
                  <a:pt x="0" y="49609"/>
                </a:moveTo>
                <a:lnTo>
                  <a:pt x="6201" y="49609"/>
                </a:lnTo>
                <a:lnTo>
                  <a:pt x="6201" y="148828"/>
                </a:lnTo>
                <a:lnTo>
                  <a:pt x="0" y="148828"/>
                </a:lnTo>
                <a:close/>
                <a:moveTo>
                  <a:pt x="12402" y="49609"/>
                </a:moveTo>
                <a:lnTo>
                  <a:pt x="24805" y="49609"/>
                </a:lnTo>
                <a:lnTo>
                  <a:pt x="24805" y="148828"/>
                </a:lnTo>
                <a:lnTo>
                  <a:pt x="12402" y="148828"/>
                </a:lnTo>
                <a:close/>
                <a:moveTo>
                  <a:pt x="31006" y="49609"/>
                </a:moveTo>
                <a:lnTo>
                  <a:pt x="472282" y="49609"/>
                </a:lnTo>
                <a:lnTo>
                  <a:pt x="472282" y="0"/>
                </a:lnTo>
                <a:lnTo>
                  <a:pt x="571500" y="99219"/>
                </a:lnTo>
                <a:lnTo>
                  <a:pt x="472282" y="198437"/>
                </a:lnTo>
                <a:lnTo>
                  <a:pt x="472282" y="148828"/>
                </a:lnTo>
                <a:lnTo>
                  <a:pt x="31006" y="148828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0040" y="24156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l-GR" sz="3600" spc="-1" strike="noStrike" u="sng">
              <a:solidFill>
                <a:srgbClr val="3333ff"/>
              </a:solidFill>
              <a:uFillTx/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7176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Συγκέντρωση φωτογραφικού υλικού από τοπικές δημιουργίες καλλιτεχνών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Λήψη συνέντευξης από καλλιτέχνη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Σύνταξη ερωτηματολογίων και συμπλήρωση τους από πολίτες διαφόρων ηλικιών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l-GR" sz="4000" spc="-1" strike="noStrike" u="sng">
              <a:solidFill>
                <a:srgbClr val="3333ff"/>
              </a:solidFill>
              <a:uFillTx/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Καταγραφή αποτελεσμάτων των ερωτηματολογίων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Δημιουργία </a:t>
            </a:r>
            <a:r>
              <a:rPr b="0" lang="en-US" sz="2400" spc="-1" strike="noStrike">
                <a:solidFill>
                  <a:srgbClr val="062329"/>
                </a:solidFill>
                <a:latin typeface="Cambria"/>
              </a:rPr>
              <a:t>graffiti </a:t>
            </a: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και βιντεοσκόπηση της διαδικασία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Συγκέντρωση στατιστικών από τα ερωτηματολόγια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1:07:22Z</dcterms:created>
  <dc:creator>user03</dc:creator>
  <dc:description/>
  <dc:language>en-US</dc:language>
  <cp:lastModifiedBy>intra</cp:lastModifiedBy>
  <dcterms:modified xsi:type="dcterms:W3CDTF">2013-01-21T20:40:13Z</dcterms:modified>
  <cp:revision>27</cp:revision>
  <dc:subject/>
  <dc:title>52</dc:title>
</cp:coreProperties>
</file>